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C38-FB27-468C-BA13-1FA41262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8AA-1EAE-4436-8A0B-8D4F12DD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D5F-42AB-4293-9A49-B9A70568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993-374B-4F67-B127-5786EDF9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9D8-A9D8-4B1C-A836-194085C0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7B2-B54D-4BD8-A7C1-2A0B33D3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2FE-74EE-49BD-8EDC-EDAD7893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474-068D-479F-8AD3-D308A686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F7A-9310-4C19-8AE0-783EA66B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41C-FBD5-4408-B2AD-F200C956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3F4-AF3B-4B00-BF37-8F63E7BF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F08-09AD-45C9-BC2B-763FE26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7E29-491D-481E-B643-C7FE78C7D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Placeholder 6" descr="DSC00823.jpg"/>
          <p:cNvPicPr/>
          <p:nvPr/>
        </p:nvPicPr>
        <p:blipFill>
          <a:blip r:embed="rId1"/>
          <a:stretch/>
        </p:blipFill>
        <p:spPr>
          <a:xfrm>
            <a:off x="2478240" y="304920"/>
            <a:ext cx="3832200" cy="5108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b la germina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rmination of the bean se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Placeholder 4" descr="DSC00817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olutia fasolei de la bob la plant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evolution of the bean from the seed to the pl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perea tegumentulu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eaking of the tegu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TEMP.PETRE-PC.002\Desktop\poze fasole 2\DSC00822.jpg"/>
          <p:cNvPicPr/>
          <p:nvPr/>
        </p:nvPicPr>
        <p:blipFill>
          <a:blip r:embed="rId1"/>
          <a:stretch/>
        </p:blipFill>
        <p:spPr>
          <a:xfrm>
            <a:off x="2514600" y="15228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Placeholder 4" descr="DSC00821.jpg"/>
          <p:cNvPicPr/>
          <p:nvPr/>
        </p:nvPicPr>
        <p:blipFill>
          <a:blip r:embed="rId1"/>
          <a:stretch/>
        </p:blipFill>
        <p:spPr>
          <a:xfrm>
            <a:off x="2478240" y="304920"/>
            <a:ext cx="3832200" cy="5108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aritia radacinii si a tulpinite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ppearance of the root and the ste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Placeholder 4" descr="DSC00820.jpg"/>
          <p:cNvPicPr/>
          <p:nvPr/>
        </p:nvPicPr>
        <p:blipFill>
          <a:blip r:embed="rId1"/>
          <a:stretch/>
        </p:blipFill>
        <p:spPr>
          <a:xfrm>
            <a:off x="2478240" y="228600"/>
            <a:ext cx="3889080" cy="5184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aritia cotiledoanel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ppearance of the cotyled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Placeholder 4" descr="DSC00819.jpg"/>
          <p:cNvPicPr/>
          <p:nvPr/>
        </p:nvPicPr>
        <p:blipFill>
          <a:blip r:embed="rId1"/>
          <a:stretch/>
        </p:blipFill>
        <p:spPr>
          <a:xfrm>
            <a:off x="2478240" y="457200"/>
            <a:ext cx="4114800" cy="495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aritia frunzulitel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ppearance of the leav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Placeholder 4" descr="DSC00818.jpg"/>
          <p:cNvPicPr/>
          <p:nvPr/>
        </p:nvPicPr>
        <p:blipFill>
          <a:blip r:embed="rId1"/>
          <a:stretch/>
        </p:blipFill>
        <p:spPr>
          <a:xfrm>
            <a:off x="2478240" y="228600"/>
            <a:ext cx="3889080" cy="5184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antut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l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Placeholder 4" descr="DSC00824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antuta cu frunze adevar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lant with real leav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Placeholder 4" descr="DSC00825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iledoanele se usuca si c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otyledons dry and fall dow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Placeholder 4" descr="DSC0083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1:15:21Z</dcterms:created>
  <dc:creator>PETRE</dc:creator>
  <dc:description/>
  <dc:language>en-US</dc:language>
  <cp:lastModifiedBy>s</cp:lastModifiedBy>
  <dcterms:modified xsi:type="dcterms:W3CDTF">2010-01-19T10:18:47Z</dcterms:modified>
  <cp:revision>5</cp:revision>
  <dc:subject/>
  <dc:title>Slide 1</dc:title>
</cp:coreProperties>
</file>